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12193588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87480" y="744120"/>
            <a:ext cx="661320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0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21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54CE-32B8-4840-9988-DF260E61CC5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A00D-4212-4B55-BDB0-D981BA63C3D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D8D3-F0B0-47C8-A548-A888CA5E10F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9F41-938B-4E4B-80D4-B8DB1268007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232C-D0EB-4B92-A38D-F56735C82F6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0087-08B7-42F7-8A14-4662A47C733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B971-544C-4A4D-862F-B20D485F2ED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E41D-9303-4667-9E07-AA5D1C23F9D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7E14-4217-4CF1-8FF0-5DBE52903C6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2A66-330E-4004-8571-195A97693C3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E1AA-3BCD-4227-BA7D-FB10995A1B3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0AD1-4509-468D-8B4D-6A69A59C688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2790-2314-4C7B-A6C3-9F847ED02A5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3B9D-DE70-424E-8C37-B2B414C2458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5D5B-2E51-4077-9409-84AE00C86E5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575-6E9D-4BA5-B647-5413BD97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A22-33FA-41F6-9B64-32D0520D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5F31-71AC-4B31-AFB0-C8831F88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F68-8F09-48D1-97E7-A5E0684F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D220-2FDD-43F8-8A0D-14E0F125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2552-906A-4CFA-9BFB-753A1740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7DE6-4C8C-439C-B6A3-CA729938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4C9D-686E-4EFF-BA13-3D7EA11D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A61E-3618-4CEC-9FB4-AF22458F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FC60-BF2A-454F-9781-FA2C8CB3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2541-3E71-4133-99AD-6D26C9B0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185-4A8E-477C-8EBA-56D309D1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E8CE-6F5C-41E7-9428-6D4A362B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B161-E60E-46F4-B7EB-15E03F25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FF6F-5457-4884-B89B-E7F38928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98FB-8246-4BFD-96A1-A2E45D33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67DD-B989-4064-9C9D-C02A6CDD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409AE-1F7B-4ED7-B53F-19FC185C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E3BA5-3EC2-47D3-AF02-30653944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BD1D9-6265-4075-909C-394A0D59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D9A9C-9483-4546-8BA2-0D2EAE87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C72E4-8B48-462A-8E9C-67F008F5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F959-2CB6-43DE-AB92-2091CBA1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E2049-7E71-458A-A123-4C295101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0A330-4A01-4153-9D4F-44BE3161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FDE83-4A4A-4B91-8F32-AF12981F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FDC56-5ADF-4A71-B4C9-2D04F6B7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816C5-F2F3-42B6-B786-1A5DFF89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70548-805C-409D-B60A-634C18FF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65128-9C0D-48B6-BF43-DC32B950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4072C-14C9-4658-A389-CB253005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59B74-100B-448C-9AE7-E771DC03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962F1-57CD-4DF6-8E8A-220FB957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3CA5-A117-40F3-AB83-C6FAD336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2542C-8AEF-4AA9-B7FC-EAAFF32D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95EF4-91AE-47CB-B8C8-095A36DA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0256D-B55C-4EA0-97F2-8C7FD806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B7DDA-DDE6-46D0-AE9D-1B8AF8D7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3341-B076-4EF5-B546-9EDD71A6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F655F-822E-4D68-AD67-743259EF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11040-51F6-40ED-B4BF-9A4A2430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7C023-F3E2-4BCC-9A9F-E3E578BF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215D5-1B40-4B58-BE1F-E04BD360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C4BE3-FAF9-44D6-BE90-58787167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F14-D7D2-400E-8941-F6BE4CF0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9090A-666B-4185-9A97-D7CF4E2D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AD3E5-463C-45E8-BB34-5B9247AA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B0D44-F789-4C22-83CB-79477E5A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F1115-CFB8-4EAA-B982-384F299E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3E413-382C-4561-A9D7-BF6CD205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AA6C0-A883-45B7-8D5B-335A0BB5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14C45-2AF9-4C9F-B1C6-0E0BFC2A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392A8-F6A8-48C1-B3FA-AAC92D6E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B0A18-9EEB-4877-96DE-C6BA82D8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26235-7DFB-47AB-AFDE-44564E2B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CAC-9235-490D-BE47-9A3FD13F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975E0-A746-4F69-8F29-A30A36A9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FAA6F-70D9-434D-94BD-144B9CE8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7B984-CACA-4C4A-95FF-DE939E8C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F561B-018F-48B1-A2FD-5916F8CA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94C4A-E1FB-4E03-9927-AF7FFDCB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2EE89-6847-4945-BC29-2B342719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35A6A-F47B-4F19-870A-61693571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43288-87DB-4D10-AB66-E3ECB16B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BA3D5-EEFE-4BAF-B4E9-A83C812A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1AD6C-0716-4FB0-8738-2D7EE59A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FE2-D33E-4484-A75F-37549950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68FBD-D171-4B13-98E9-7759CCFC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778E1-AF94-4036-8229-BF4A36BC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7458C-919C-4D34-8A61-20CD577D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99D-6E3B-468C-82E4-8DF1AD3C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385-0FFD-404D-94C6-11B26C9C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0A0C-12A4-4F48-AEE0-611A73AED042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692F-0593-448B-B864-0C0FED5C405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A76A-B272-45A7-9D30-CE1071A26E8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A484-41BC-4965-8CC8-0F17FE7302AA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52FE-609A-4554-84F7-4B0295D8799B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CB0C-7DBC-453F-8B38-12F93302280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DBFC-2124-42DD-A136-A8AA216906C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D91D-E677-4A4B-ABC0-E2DA57BDF99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tângulo 7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2BAD-75BB-4DEF-9086-C15DF5FA966C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54AE-648C-43DC-80F2-9D7B9292F53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296D-0F4C-40C3-B511-47016CDF78FB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BFD3-F352-435D-BAA7-C43BD53FB88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1055520" y="838080"/>
            <a:ext cx="9361800" cy="60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Janeiro de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31680" y="6453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0240" y="549360"/>
            <a:ext cx="966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9 a 2018) 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Imagem 1" descr=""/>
          <p:cNvPicPr/>
          <p:nvPr/>
        </p:nvPicPr>
        <p:blipFill>
          <a:blip r:embed="rId1"/>
          <a:stretch/>
        </p:blipFill>
        <p:spPr>
          <a:xfrm>
            <a:off x="30240" y="1052640"/>
            <a:ext cx="1153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0" y="64562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8 estimado de acordo com a Grade de Parâmetros da SPE/MF de 01/201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0" y="509760"/>
            <a:ext cx="9551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9 a 2018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agem 1" descr=""/>
          <p:cNvPicPr/>
          <p:nvPr/>
        </p:nvPicPr>
        <p:blipFill>
          <a:blip r:embed="rId1"/>
          <a:stretch/>
        </p:blipFill>
        <p:spPr>
          <a:xfrm>
            <a:off x="0" y="1230480"/>
            <a:ext cx="12072960" cy="52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12600" y="549360"/>
            <a:ext cx="953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(2017 e 2018) – Em R$ milhões de dezembro/2018 (INPC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34800" y="638172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12600" y="1378080"/>
            <a:ext cx="118443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27000" y="476280"/>
            <a:ext cx="9524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(2017 e 2018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16080" y="6381720"/>
            <a:ext cx="36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27000" y="1438200"/>
            <a:ext cx="120459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SULTADO DO RG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47628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9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9080" y="6453360"/>
            <a:ext cx="35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m 1" descr=""/>
          <p:cNvPicPr/>
          <p:nvPr/>
        </p:nvPicPr>
        <p:blipFill>
          <a:blip r:embed="rId1"/>
          <a:stretch/>
        </p:blipFill>
        <p:spPr>
          <a:xfrm>
            <a:off x="0" y="1341360"/>
            <a:ext cx="12072960" cy="50403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2"/>
          <p:cNvSpPr/>
          <p:nvPr/>
        </p:nvSpPr>
        <p:spPr>
          <a:xfrm>
            <a:off x="0" y="907920"/>
            <a:ext cx="1048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a66ac"/>
                </a:solidFill>
                <a:latin typeface="Arial"/>
                <a:ea typeface="Times New Roman"/>
              </a:rPr>
              <a:t>Entre 2018 e 2017, a arrecadação líquida cresceu 1,4% (+R$ 5,6 bilhões), a despesa com benefícios previdenciários 2,3% (+R$ 13,2 bilhões) e o Resultado Previdenciário apresentou elevação de 4,0% (+R$ 7,6 bilhõe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0" y="6458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0" y="54936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umulado de Janeiro a Dezembro (2009 a 2018)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Imagem 1" descr=""/>
          <p:cNvPicPr/>
          <p:nvPr/>
        </p:nvPicPr>
        <p:blipFill>
          <a:blip r:embed="rId1"/>
          <a:stretch/>
        </p:blipFill>
        <p:spPr>
          <a:xfrm>
            <a:off x="0" y="1052640"/>
            <a:ext cx="117126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7920" y="643248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8 estimado de acordo com a Grade de Parâmetros da SPE/MF de 01/201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-7920" y="549360"/>
            <a:ext cx="9578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9 a 201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Imagem 1" descr=""/>
          <p:cNvPicPr/>
          <p:nvPr/>
        </p:nvPicPr>
        <p:blipFill>
          <a:blip r:embed="rId1"/>
          <a:stretch/>
        </p:blipFill>
        <p:spPr>
          <a:xfrm>
            <a:off x="-7920" y="1052640"/>
            <a:ext cx="12080880" cy="53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162000" y="476280"/>
            <a:ext cx="9389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de Dezembro de 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0" y="6485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Imagem 1" descr=""/>
          <p:cNvPicPr/>
          <p:nvPr/>
        </p:nvPicPr>
        <p:blipFill>
          <a:blip r:embed="rId1"/>
          <a:stretch/>
        </p:blipFill>
        <p:spPr>
          <a:xfrm>
            <a:off x="0" y="907920"/>
            <a:ext cx="12192120" cy="55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15840" y="538200"/>
            <a:ext cx="9536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0" y="64231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Imagem 1" descr=""/>
          <p:cNvPicPr/>
          <p:nvPr/>
        </p:nvPicPr>
        <p:blipFill>
          <a:blip r:embed="rId1"/>
          <a:stretch/>
        </p:blipFill>
        <p:spPr>
          <a:xfrm>
            <a:off x="15840" y="907920"/>
            <a:ext cx="12176280" cy="55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URB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TENDÊNCIAS ARRECADAÇÃO, DESPESA E RESULT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0" y="547560"/>
            <a:ext cx="9624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 e Despesa com Benefícios Previdenciários, nos últimos 25 meses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bilhões de dezembro/2018 - INPC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4995720" y="11224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19080" y="64231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Imagem 1" descr=""/>
          <p:cNvPicPr/>
          <p:nvPr/>
        </p:nvPicPr>
        <p:blipFill>
          <a:blip r:embed="rId1"/>
          <a:stretch/>
        </p:blipFill>
        <p:spPr>
          <a:xfrm>
            <a:off x="0" y="1195560"/>
            <a:ext cx="1214424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549360"/>
            <a:ext cx="9624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Composição da Arrecadação Líqu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Corrente, Recuperação de Créditos e Transferência a Terceiros, nos últimos 25 meses –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bilhões de dezembro/2018 - INP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263520" y="63817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Imagem 1" descr=""/>
          <p:cNvPicPr/>
          <p:nvPr/>
        </p:nvPicPr>
        <p:blipFill>
          <a:blip r:embed="rId1"/>
          <a:stretch/>
        </p:blipFill>
        <p:spPr>
          <a:xfrm>
            <a:off x="0" y="1341360"/>
            <a:ext cx="120729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476280"/>
            <a:ext cx="95518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Composição da Despesa com Benefícios Previdenciá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Benefícios Pagos pelo INSS e Sentenças Judiciais nos últimos 25 meses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– Em R$ bilhões de dezembro/2018 (INPC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47520" y="6458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Imagem 1" descr=""/>
          <p:cNvPicPr/>
          <p:nvPr/>
        </p:nvPicPr>
        <p:blipFill>
          <a:blip r:embed="rId1"/>
          <a:stretch/>
        </p:blipFill>
        <p:spPr>
          <a:xfrm>
            <a:off x="47520" y="1268280"/>
            <a:ext cx="120967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-4680" y="476280"/>
            <a:ext cx="96249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a Previdência Social – nos últimos 25 m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bilhões de dezembro/2018 - INP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7"/>
          <p:cNvSpPr/>
          <p:nvPr/>
        </p:nvSpPr>
        <p:spPr>
          <a:xfrm>
            <a:off x="0" y="641340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Imagem 1" descr=""/>
          <p:cNvPicPr/>
          <p:nvPr/>
        </p:nvPicPr>
        <p:blipFill>
          <a:blip r:embed="rId1"/>
          <a:stretch/>
        </p:blipFill>
        <p:spPr>
          <a:xfrm>
            <a:off x="0" y="1087560"/>
            <a:ext cx="12192120" cy="52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549360"/>
            <a:ext cx="9607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por Clientela – Média móvel de 12 m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Janeiro/2009 a dezembro/2018) –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milhões de dezembro/2018 - INP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0" y="6426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Imagem 1" descr=""/>
          <p:cNvPicPr/>
          <p:nvPr/>
        </p:nvPicPr>
        <p:blipFill>
          <a:blip r:embed="rId1"/>
          <a:stretch/>
        </p:blipFill>
        <p:spPr>
          <a:xfrm>
            <a:off x="0" y="1123920"/>
            <a:ext cx="12192120" cy="53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4680" y="549360"/>
            <a:ext cx="95472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Média móvel de 12 m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Janeiro/2009 a dezembro/2018)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bilhões de dezembro/2018 (INP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34800" y="6453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Imagem 1" descr=""/>
          <p:cNvPicPr/>
          <p:nvPr/>
        </p:nvPicPr>
        <p:blipFill>
          <a:blip r:embed="rId1"/>
          <a:stretch/>
        </p:blipFill>
        <p:spPr>
          <a:xfrm>
            <a:off x="4680" y="1125360"/>
            <a:ext cx="12139560" cy="532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EMITI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ESTOQU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476280"/>
            <a:ext cx="9624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Dez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/2017, Nov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/2018 e Dezembro/20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47520" y="6381720"/>
            <a:ext cx="986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o Desenvolvimento Social e Combate à F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agem 1" descr=""/>
          <p:cNvPicPr/>
          <p:nvPr/>
        </p:nvPicPr>
        <p:blipFill>
          <a:blip r:embed="rId1"/>
          <a:stretch/>
        </p:blipFill>
        <p:spPr>
          <a:xfrm>
            <a:off x="47520" y="907920"/>
            <a:ext cx="1195236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4680" y="909720"/>
            <a:ext cx="962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tre dezembro de 2008 e dezembro de 2018, a quantidade de benefícios previdenciários e acidentários emitidos pela Previdência aumentou 32,9%, passando de 22,8 milhões para 30,3 milhõ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4680" y="549360"/>
            <a:ext cx="9620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da Quantidade de Benefícios Emitidos pela Previdência Social</a:t>
            </a:r>
            <a:r>
              <a:rPr b="1" i="1" lang="pt-BR" sz="1600" spc="-1" strike="noStrike">
                <a:solidFill>
                  <a:srgbClr val="629dd1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m milhões de benefícios - 2008 a 2018 (dezemb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4680" y="6381720"/>
            <a:ext cx="1008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o Desenvolvimento Social e Combate à F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Imagem 1" descr=""/>
          <p:cNvPicPr/>
          <p:nvPr/>
        </p:nvPicPr>
        <p:blipFill>
          <a:blip r:embed="rId1"/>
          <a:stretch/>
        </p:blipFill>
        <p:spPr>
          <a:xfrm>
            <a:off x="4680" y="1366920"/>
            <a:ext cx="12139560" cy="50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476280"/>
            <a:ext cx="9696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9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92240" y="6435720"/>
            <a:ext cx="663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De 2009 a 2015, ocorreu superávit na área urba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Imagem 2" descr=""/>
          <p:cNvPicPr/>
          <p:nvPr/>
        </p:nvPicPr>
        <p:blipFill>
          <a:blip r:embed="rId1"/>
          <a:stretch/>
        </p:blipFill>
        <p:spPr>
          <a:xfrm>
            <a:off x="334800" y="1557360"/>
            <a:ext cx="11161800" cy="48783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2"/>
          <p:cNvSpPr/>
          <p:nvPr/>
        </p:nvSpPr>
        <p:spPr>
          <a:xfrm>
            <a:off x="0" y="981000"/>
            <a:ext cx="1048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a66ac"/>
                </a:solidFill>
                <a:latin typeface="Arial"/>
                <a:ea typeface="Times New Roman"/>
              </a:rPr>
              <a:t>Entre 2018 e 2017, a arrecadação líquida urbana cresceu 1,4% (+R$ 5,2 bilhões), a despesa com benefícios previdenciários 2,8% (+R$ 12,9 bilhões) e o Resultado Previdenciário apresentou elevação de 10,3% (+R$ 7,7 bilhõe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581040"/>
            <a:ext cx="9624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lor Médio Real dos Benefícios Emitidos do Regime Geral de Previdência Social (2011 a 2018)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Média de Janeiro a Dezembro de cada ano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Em R$ de Dezembro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0" y="1044720"/>
            <a:ext cx="97678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valor médio real dos benefícios do RGPS atingiu R$ 1.404,67, na média de janeiro a dezembro de 2018, o que representou um crescimento de 11,1% em relação ao mesmo período de 201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655560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+11,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"/>
          <p:cNvSpPr/>
          <p:nvPr/>
        </p:nvSpPr>
        <p:spPr>
          <a:xfrm flipV="1">
            <a:off x="3139920" y="5229360"/>
            <a:ext cx="3422880" cy="620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6"/>
          <p:cNvSpPr/>
          <p:nvPr/>
        </p:nvSpPr>
        <p:spPr>
          <a:xfrm flipH="1">
            <a:off x="7608960" y="2852640"/>
            <a:ext cx="3456000" cy="2239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334800" y="6367320"/>
            <a:ext cx="861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m 1" descr=""/>
          <p:cNvPicPr/>
          <p:nvPr/>
        </p:nvPicPr>
        <p:blipFill>
          <a:blip r:embed="rId1"/>
          <a:stretch/>
        </p:blipFill>
        <p:spPr>
          <a:xfrm>
            <a:off x="4680" y="1565280"/>
            <a:ext cx="1205064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0" y="6303960"/>
            <a:ext cx="12072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s: DATAPREV, SUB, SINTESE.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Obs.: A existência de benefícios com valores inferiores ao salário mínimo deve-se ao desmembramento de pensões e ao pagamento de benefícios como o salário-família, o auxílio suplementar, o auxílio acidente e o abono de permanênci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4871880" y="2133720"/>
            <a:ext cx="568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</a:rPr>
              <a:t>Cerca de 66,5% dos benefícios pagos pelo INSS em dez/2018 possuíam o valor de até um salário mínimo, o que representa um contingente de 23,3 milhões de beneficiári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34800" y="746280"/>
            <a:ext cx="1080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ição de Benefícios Emitidos, segundo faixas de Valores 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m Pisos Previdenciários (Posição em dezembro/20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em 1" descr=""/>
          <p:cNvPicPr/>
          <p:nvPr/>
        </p:nvPicPr>
        <p:blipFill>
          <a:blip r:embed="rId1"/>
          <a:stretch/>
        </p:blipFill>
        <p:spPr>
          <a:xfrm>
            <a:off x="0" y="1251000"/>
            <a:ext cx="12192120" cy="50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CONCEDI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FLUX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6480" y="549360"/>
            <a:ext cx="9545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/2017, Novembro/2018, Dezembro/2018 e Acumulado no ano (2017 e 20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0" y="645624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Imagem 1" descr=""/>
          <p:cNvPicPr/>
          <p:nvPr/>
        </p:nvPicPr>
        <p:blipFill>
          <a:blip r:embed="rId1"/>
          <a:stretch/>
        </p:blipFill>
        <p:spPr>
          <a:xfrm>
            <a:off x="6480" y="1052640"/>
            <a:ext cx="12185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49360"/>
            <a:ext cx="9624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pela Previdência Social (2010 a 201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cumulado de Janeiro 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 de cada ano ( 2010 a 2018) –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Em milhares de benefí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34800" y="638172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Imagem 1" descr=""/>
          <p:cNvPicPr/>
          <p:nvPr/>
        </p:nvPicPr>
        <p:blipFill>
          <a:blip r:embed="rId1"/>
          <a:stretch/>
        </p:blipFill>
        <p:spPr>
          <a:xfrm>
            <a:off x="0" y="1260360"/>
            <a:ext cx="121442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34920" y="549360"/>
            <a:ext cx="9590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9 a 2018) 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6458040"/>
            <a:ext cx="663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De 2009 a 2015, ocorreu superávit na área urba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m 1" descr=""/>
          <p:cNvPicPr/>
          <p:nvPr/>
        </p:nvPicPr>
        <p:blipFill>
          <a:blip r:embed="rId1"/>
          <a:stretch/>
        </p:blipFill>
        <p:spPr>
          <a:xfrm>
            <a:off x="47520" y="1054080"/>
            <a:ext cx="1137780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-12600" y="476280"/>
            <a:ext cx="9408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9 a 2018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27000" y="6437160"/>
            <a:ext cx="871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–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1. PIB 2018 estimado de acordo com a Grade de Parâmetros da SPE/MF de 01/2019.   2. De 2009 a 2015, ocorreu superávit na área  urban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Imagem 2" descr=""/>
          <p:cNvPicPr/>
          <p:nvPr/>
        </p:nvPicPr>
        <p:blipFill>
          <a:blip r:embed="rId1"/>
          <a:stretch/>
        </p:blipFill>
        <p:spPr>
          <a:xfrm>
            <a:off x="27000" y="1052640"/>
            <a:ext cx="1204596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476280"/>
            <a:ext cx="9551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 (2017 e 2018) – Em R$ milhões de dezembro/2018 (INP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0" y="6450120"/>
            <a:ext cx="788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Imagem 1" descr=""/>
          <p:cNvPicPr/>
          <p:nvPr/>
        </p:nvPicPr>
        <p:blipFill>
          <a:blip r:embed="rId1"/>
          <a:stretch/>
        </p:blipFill>
        <p:spPr>
          <a:xfrm>
            <a:off x="0" y="1268280"/>
            <a:ext cx="1192860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3"/>
          <p:cNvSpPr/>
          <p:nvPr/>
        </p:nvSpPr>
        <p:spPr>
          <a:xfrm>
            <a:off x="0" y="476280"/>
            <a:ext cx="101995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Dezembro/2017, Novembro e Dezembro de 2018 e Acumulado no ano (2017 e 2018)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milhões nomina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240" y="6481800"/>
            <a:ext cx="30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3240" y="1197000"/>
            <a:ext cx="117093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33480" y="6426360"/>
            <a:ext cx="556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4400" y="476280"/>
            <a:ext cx="96105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9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0" y="981000"/>
            <a:ext cx="11640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a66ac"/>
                </a:solidFill>
                <a:latin typeface="Arial"/>
                <a:ea typeface="Times New Roman"/>
              </a:rPr>
              <a:t>Entre 2018 e 2017, a arrecadação líquida rural cresceu 3,8% (+R$ 366,8 milhões), a despesa com benefícios previdenciários rural e o resultado previdenciário rural tiveram leves aumentos de 0,2% (+R$ 207,3 milhões)  e 0,1% (+R$ 159,5 milhões), respectiv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Imagem 1" descr=""/>
          <p:cNvPicPr/>
          <p:nvPr/>
        </p:nvPicPr>
        <p:blipFill>
          <a:blip r:embed="rId1"/>
          <a:stretch/>
        </p:blipFill>
        <p:spPr>
          <a:xfrm>
            <a:off x="33480" y="1484280"/>
            <a:ext cx="1167912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8-23T21:50:06Z</cp:lastPrinted>
  <dcterms:modified xsi:type="dcterms:W3CDTF">2019-02-11T12:26:48Z</dcterms:modified>
  <cp:revision>665</cp:revision>
  <dc:subject/>
  <dc:title>Demografia</dc:title>
</cp:coreProperties>
</file>